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4.3OneMoreThing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5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638440"/>
            <a:ext cx="8077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But none of these things move me; nor do I count my life dear to myself, so that I may finish my race with joy, and the ministry which I received from the Lord Jesus, to testify to the gospel of the grace of God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0: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9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MINISTRY BROUGHT LIF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WOLVES WILL BRING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DESTRUCTION AND DIVI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DISCIPLES WERE CHALLENGED TO FOLLOW PAUL’S EXAMPL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44:05Z</dcterms:modified>
  <cp:revision>60</cp:revision>
  <dc:subject/>
  <dc:title>PowerPoint Presentation</dc:title>
</cp:coreProperties>
</file>