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3.2ChangeYouCanTrust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3.2ChangeYouCanTrust2.jpg"/>
          <p:cNvPicPr/>
          <p:nvPr/>
        </p:nvPicPr>
        <p:blipFill>
          <a:blip r:embed="rId1"/>
          <a:stretch/>
        </p:blipFill>
        <p:spPr>
          <a:xfrm>
            <a:off x="0" y="0"/>
            <a:ext cx="13004640" cy="9753480"/>
          </a:xfrm>
          <a:prstGeom prst="rect">
            <a:avLst/>
          </a:prstGeom>
          <a:ln w="0">
            <a:noFill/>
          </a:ln>
        </p:spPr>
      </p:pic>
      <p:sp>
        <p:nvSpPr>
          <p:cNvPr id="78" name="TextBox 2"/>
          <p:cNvSpPr/>
          <p:nvPr/>
        </p:nvSpPr>
        <p:spPr>
          <a:xfrm>
            <a:off x="1930320" y="2257560"/>
            <a:ext cx="92203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That you put off, concerning your former conduct, the old man which grows corrupt according to the deceitful lusts, and be renewed in the spirit of your mind, and that you put on the new man which was created according to God, in true righteousness and holines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Ephesians 4:22-24</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 descr="3.2ChangeYouCanTrust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FTER HIS CONVERSION, SAUL IMMEDIATELY BEGAN TO PREACH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SLOWLY, BOTH THE CHRISTIANS AND JEWISH LEADERS BECAME CONVINCED THE CHAN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IN SAUL WAS REAL</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SAUL’S HEART WAS CHANGED, BUT HIS BOLD PERSONALITY WAS NOT</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0" descr="3.2ChangeYouCanTrust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40:18Z</dcterms:modified>
  <cp:revision>53</cp:revision>
  <dc:subject/>
  <dc:title>PowerPoint Presentation</dc:title>
</cp:coreProperties>
</file>