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.7MineYour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778040" y="3116160"/>
            <a:ext cx="944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Now the multitude of those who believed were of one heart and one soul; neither did anyone say that any of the things he possessed was his own, but they had all things in common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Acts 4:3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43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GIVE AWAY 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SELL THE EXCES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THE PEOPLE SOLD THEIR ITEMS, NOT SOMEONE ELSE’S ITEM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IT WAS PERSON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ARE PEOPLE WHO MEET REAL NEED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wana Employee</cp:lastModifiedBy>
  <dcterms:modified xsi:type="dcterms:W3CDTF">2016-07-22T19:46:22Z</dcterms:modified>
  <cp:revision>43</cp:revision>
  <dc:subject/>
  <dc:title>PowerPoint Presentation</dc:title>
</cp:coreProperties>
</file>