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3.1VillaintoHero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930320" y="2541600"/>
            <a:ext cx="922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I am the least of the apostles, who am not worthy to be called an apostle, because I persecuted the church of God. But by the grace of God I am what I am, and His grace toward me was not in vain; but I labored more abundantly than they all, yet not I, but the grace of God which was with m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1 Corinthians 15:9-10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AUL SET OUT TO ARREST THE CHRISTIANS IN DAMASCU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LORD KNOCKED SAUL DOWN, SPOKE TO HIM, AND BLINDED HIM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GOD USED ANANIAS TO GIV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AUL HIS MESSAG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33:04Z</dcterms:modified>
  <cp:revision>50</cp:revision>
  <dc:subject/>
  <dc:title>PowerPoint Presentation</dc:title>
</cp:coreProperties>
</file>