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9" descr="4.7FriendsThatWon'tQui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11560" y="2514600"/>
            <a:ext cx="853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Let your conduct be without covetousness; be content with such things as you have. For He Himself has said, “I will never leave you nor forsake you.” So we may boldly say: “The Lord is my helper; I will not fear. What can man do to me?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Proverbs 18:2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SETS OFF FOR ROME WITH LUKE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KNEW THE SHIP WOULD FACE DISASTER AND WARNED THE OTHER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EVEN WHEN THINGS LOOKED THE WORST, PAUL REFUSED TO STOP TRUSTING GOD AND ENCOURAGING THE OTHER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AND LUKE FINALLY ARRIVED IN ROME AND WERE ENCOURAGED BY THE CHRISTIAN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PRESENTED THE GOOD NEWS ABOUT JESUS TO THE JEWISH PEOPLE IN ROME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CONTINUED TO PROCLAIM THE GOSPEL IN ROME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1:10:12Z</dcterms:modified>
  <cp:revision>65</cp:revision>
  <dc:subject/>
  <dc:title>PowerPoint Presentation</dc:title>
</cp:coreProperties>
</file>