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2.1Contagious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2.1Contagiou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1930320" y="327672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Yet none of the rest dared join them, but the people esteemed them highly. And believers were increasingly added to the Lord, multitudes of both men and women</a:t>
            </a: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Acts 5:13-14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2.1Contagiou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171612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THE CHURCH WAS TOGETHER,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FAVORED IN THE COMMUNITY, AND GROWING IN NUMBERS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THE CHURCH WAS POWERFUL,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BOLD, AND RESPECTED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THE CHURCH WAS HEALING PEOPLE IN JESUS’ NAME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9" descr="2.1Contagiou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19:08:21Z</dcterms:modified>
  <cp:revision>45</cp:revision>
  <dc:subject/>
  <dc:title>PowerPoint Presentation</dc:title>
</cp:coreProperties>
</file>