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2.7PhilipandtheEthiopian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2.7PhilipandtheEthiopian2.jpg"/>
          <p:cNvPicPr/>
          <p:nvPr/>
        </p:nvPicPr>
        <p:blipFill>
          <a:blip r:embed="rId1"/>
          <a:stretch/>
        </p:blipFill>
        <p:spPr>
          <a:xfrm>
            <a:off x="0" y="0"/>
            <a:ext cx="13004640" cy="9753480"/>
          </a:xfrm>
          <a:prstGeom prst="rect">
            <a:avLst/>
          </a:prstGeom>
          <a:ln w="0">
            <a:noFill/>
          </a:ln>
        </p:spPr>
      </p:pic>
      <p:sp>
        <p:nvSpPr>
          <p:cNvPr id="78" name="TextBox 2"/>
          <p:cNvSpPr/>
          <p:nvPr/>
        </p:nvSpPr>
        <p:spPr>
          <a:xfrm>
            <a:off x="2006640" y="2590920"/>
            <a:ext cx="90676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The place in the Scripture which he read was this: “He was led as a sheep to the slaughter; And as a lamb before its shearer is silent, So He opened not His mouth. In His humiliation His justice was taken away, And who will declare His generation? For His life is taken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from the earth.”</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s 8:32-33</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2.7PhilipandtheEthiopian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98108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GOD SENT PHILIP TO MEET THE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ETHIOPIAN MAN</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HILIP EXPLAINED THE GOSPEL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FROM SCRIPTURE</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THE ETHIOPIAN MAN BELIEVED AND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WAS BAPTIZED</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2.7PhilipandtheEthiopian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30:46Z</dcterms:modified>
  <cp:revision>50</cp:revision>
  <dc:subject/>
  <dc:title>PowerPoint Presentation</dc:title>
</cp:coreProperties>
</file>