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.2RighteousRebellio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149640" y="35053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But Peter and the other apostles answered and said: “We ought to obey God rather than men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cts 5:2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SANHEDRIN STRUCK BACK A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 KEPT REBELL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GAMALIEL SUGGES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N EXPERI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9:47Z</dcterms:modified>
  <cp:revision>44</cp:revision>
  <dc:subject/>
  <dc:title>PowerPoint Presentation</dc:title>
</cp:coreProperties>
</file>