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8" descr="4.6NeverAlone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8" descr="4.6NeverAlon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540160" y="23623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Let your conduct be without covetousness; be content with such things as you have. For He Himself has said, “I will never leave you nor forsake you.” So we may boldly say: “The Lord is my helper; I will not fear. What can man do to me?”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Hebrews 13:5-6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2" descr="4.6NeverAlon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d9d9d9"/>
                </a:solidFill>
                <a:latin typeface="Helvetica Light"/>
              </a:rPr>
              <a:t>PAUL STANDS ALONE BEFORE FESTU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d9d9d9"/>
                </a:solidFill>
                <a:latin typeface="Helvetica Light"/>
              </a:rPr>
              <a:t>PAUL TESTIFIES ALONE BEFOR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d9d9d9"/>
                </a:solidFill>
                <a:latin typeface="Helvetica Light"/>
              </a:rPr>
              <a:t>KING AGRIPPA</a:t>
            </a: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d9d9d9"/>
                </a:solidFill>
                <a:latin typeface="Helvetica Light"/>
              </a:rPr>
              <a:t>GOD NEVER LEFT PAUL ALONE</a:t>
            </a: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1" descr="4.6NeverAlon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d9d9d9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d9d9d9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d9d9d9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0:53:50Z</dcterms:modified>
  <cp:revision>61</cp:revision>
  <dc:subject/>
  <dc:title>PowerPoint Presentation</dc:title>
</cp:coreProperties>
</file>