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3.4SurprisedbyYe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3.4SurprisedbyY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768760" y="3124080"/>
            <a:ext cx="754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You also helping together in prayer for us, that thanks may be given by many persons on our behalf for the gift granted to us through many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2 Corinthians 1:11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2" descr="3.4SurprisedbyY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KING HEROD KILLED JAMES AND ARRESTED PETER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PETER’S FRIENDS PRAYED AND WERE AMAZED WHEN GOD ANSWERED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GOD KILLED KING HEROD FOR WITHHOLDING GLORY FROM GOD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3.4SurprisedbyY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46:15Z</dcterms:modified>
  <cp:revision>55</cp:revision>
  <dc:subject/>
  <dc:title>PowerPoint Presentation</dc:title>
</cp:coreProperties>
</file>