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2.5WillingtoRunDie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2.5WillingtoRunDie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463840" y="2943360"/>
            <a:ext cx="815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Now Saul was consenting to his death. At that time a great persecution arose against the church which was at Jerusalem; and they were all scattered throughout the regions of Judea and Samaria, except the apostles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8:1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2.5WillingtoRunDie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TEPHEN SAW THE GLORY OF GOD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TEPHEN DIED FOR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— </a:t>
            </a: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AND LIKE — JESUS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ERSECUTION BEGAN AND TH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CHURCH SCATTERED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2.5WillingtoRunDie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22:24Z</dcterms:modified>
  <cp:revision>48</cp:revision>
  <dc:subject/>
  <dc:title>PowerPoint Presentation</dc:title>
</cp:coreProperties>
</file>