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.6AwesomeSign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1.6AwesomeSign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87520" y="376704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Then fear came upon every soul, and many wonders and signs were done through the apostles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2:43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1.6AwesomeSign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205740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SE SIGNS WERE AWESOME!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SE SIGNS IMPACTED MANY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SE SIGNS HELPED GET TH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WORD OUT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1.6AwesomeSign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02:39Z</dcterms:modified>
  <cp:revision>46</cp:revision>
  <dc:subject/>
  <dc:title>PowerPoint Presentation</dc:title>
</cp:coreProperties>
</file>