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9000"/>
          </a:bodyPr>
          <a:p>
            <a:pPr marL="30528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marL="5472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3" descr="4.1ALittleHelp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3" descr="4.1ALittleHelp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2387520" y="2666880"/>
            <a:ext cx="8305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Now the Lord spoke to Paul in the night by a vision, “Do not be afraid, but speak, and do not keep silent; for I am with you, and no one will attack you to hurt you; for I have many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 </a:t>
            </a: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people in this city.”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Acts 18:9-10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7" descr="4.1ALittleHelp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5"/>
          <p:cNvSpPr/>
          <p:nvPr/>
        </p:nvSpPr>
        <p:spPr>
          <a:xfrm>
            <a:off x="1473120" y="1716120"/>
            <a:ext cx="10058400" cy="6284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PAUL CONNECTED WITH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OTHER BELIEVERS</a:t>
            </a: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PAUL’S FRIENDS SUPPORTED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HIS MISSION</a:t>
            </a: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MANY PEOPLE CAME TO FAITH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IN CHRIST</a:t>
            </a: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6" descr="4.1ALittleHelp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4"/>
          <p:cNvSpPr/>
          <p:nvPr/>
        </p:nvSpPr>
        <p:spPr>
          <a:xfrm>
            <a:off x="1015920" y="1600200"/>
            <a:ext cx="11098440" cy="2158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Helvetica Light"/>
                <a:ea typeface="Arial"/>
              </a:rPr>
              <a:t>TEMPLATE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2158920" y="3809880"/>
            <a:ext cx="9840960" cy="2971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riah Hoyt</cp:lastModifiedBy>
  <dcterms:modified xsi:type="dcterms:W3CDTF">2016-07-21T19:59:17Z</dcterms:modified>
  <cp:revision>58</cp:revision>
  <dc:subject/>
  <dc:title>PowerPoint Presentation</dc:title>
</cp:coreProperties>
</file>